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71D3-7951-4170-A8DB-6F28A83D9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44A-3B76-4FB1-AF07-320D5FBAF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ABBB-DFFE-4FC4-A0C0-85E3422DF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649A-8570-4C57-B0D1-35443FE4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FC6B-7BB7-48BF-BEE3-7DBA7A101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C74-2EEB-4C0A-ACF5-44982F7A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A90-9D07-4209-85C0-917B7047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9C4-848C-4828-8138-34D9430B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A0C-3C96-46E0-9B45-59ECDBFA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2C9-87B8-4C18-9726-99A3ADE1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D1E-124C-49F8-B124-8BB86A92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4A1-EF02-4555-972F-B3D2FCCE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388-F34A-4347-B8E7-56C393A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F72-C7D9-4CDD-B51C-30AA89FF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905-6864-47E8-82D2-033446DA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E59-C15F-4520-BB2B-5629A29E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067-79FF-481A-BFF9-6AAD453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9C92-63B3-4828-9856-8B970108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onditions for the Binomial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inomial Distribution No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compute the probability of a value of X using the Binomial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find the means and standard deviation of the Binomial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219320" y="1828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981080" y="1523880"/>
            <a:ext cx="4800600" cy="119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is B(</a:t>
            </a: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480" y="2971800"/>
            <a:ext cx="85345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the number of observ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the probability of success of any one observ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ype is inherited. If both parents carry genes for the O and A blood types, each child has probability 0.25 of getting two O genes and so of having blood type O. Different children inherit independently of each other. The number of O blood types among 5 children of these parents is the count X off successes in 5 independent observ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escribe this with “B” 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B(5,.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Yates_3e_Ch08_p51009b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349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533520" y="30481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n = total # of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x or k = # of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 = probability of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1-p = probability of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n-k = # of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276360" y="3422520"/>
            <a:ext cx="4275360" cy="920520"/>
            <a:chOff x="3276360" y="3422520"/>
            <a:chExt cx="4275360" cy="920520"/>
          </a:xfrm>
        </p:grpSpPr>
        <p:sp>
          <p:nvSpPr>
            <p:cNvPr id="91" name="Line 3"/>
            <p:cNvSpPr/>
            <p:nvPr/>
          </p:nvSpPr>
          <p:spPr>
            <a:xfrm>
              <a:off x="4286520" y="3868560"/>
              <a:ext cx="588960" cy="1440"/>
            </a:xfrm>
            <a:prstGeom prst="line">
              <a:avLst/>
            </a:prstGeom>
            <a:ln cap="sq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6571080" y="3643200"/>
              <a:ext cx="980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.22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5961240" y="364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5786280" y="3643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5583240" y="364320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5308560" y="364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5132160" y="3643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930920" y="364320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4780080" y="39160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4638600" y="39160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4457880" y="39160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4303440" y="39160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4687920" y="34225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4363560" y="3422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3810240" y="364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3628800" y="3643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3479760" y="364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3276360" y="3643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6087600" y="3617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2"/>
            <p:cNvSpPr/>
            <p:nvPr/>
          </p:nvSpPr>
          <p:spPr>
            <a:xfrm>
              <a:off x="5438160" y="3617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3"/>
            <p:cNvSpPr/>
            <p:nvPr/>
          </p:nvSpPr>
          <p:spPr>
            <a:xfrm>
              <a:off x="6260760" y="36050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3963600" y="36050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2133720" y="152280"/>
            <a:ext cx="6705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209680" y="1143000"/>
            <a:ext cx="6553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precisely 7 jurors are bla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2209680" y="2819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rly, n=12 and p =.6,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2421000" y="4641840"/>
            <a:ext cx="5503680" cy="1682640"/>
            <a:chOff x="2421000" y="4641840"/>
            <a:chExt cx="5503680" cy="1682640"/>
          </a:xfrm>
        </p:grpSpPr>
        <p:pic>
          <p:nvPicPr>
            <p:cNvPr id="117" name="Picture 29" descr=""/>
            <p:cNvPicPr/>
            <p:nvPr/>
          </p:nvPicPr>
          <p:blipFill>
            <a:blip r:embed="rId1"/>
            <a:stretch/>
          </p:blipFill>
          <p:spPr>
            <a:xfrm>
              <a:off x="2421000" y="4641840"/>
              <a:ext cx="5503680" cy="168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30"/>
            <p:cNvGrpSpPr/>
            <p:nvPr/>
          </p:nvGrpSpPr>
          <p:grpSpPr>
            <a:xfrm>
              <a:off x="4858920" y="5578200"/>
              <a:ext cx="915480" cy="739800"/>
              <a:chOff x="4858920" y="5578200"/>
              <a:chExt cx="915480" cy="739800"/>
            </a:xfrm>
          </p:grpSpPr>
          <p:sp>
            <p:nvSpPr>
              <p:cNvPr id="119" name="Line 31"/>
              <p:cNvSpPr/>
              <p:nvPr/>
            </p:nvSpPr>
            <p:spPr>
              <a:xfrm>
                <a:off x="4858920" y="6013440"/>
                <a:ext cx="176040" cy="304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5162040" y="6013440"/>
                <a:ext cx="175680" cy="304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5598360" y="5578200"/>
                <a:ext cx="17604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4"/>
            <p:cNvSpPr/>
            <p:nvPr/>
          </p:nvSpPr>
          <p:spPr>
            <a:xfrm flipV="1">
              <a:off x="4782960" y="5567400"/>
              <a:ext cx="17568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 flipV="1">
              <a:off x="4565520" y="6002280"/>
              <a:ext cx="17568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 flipV="1">
              <a:off x="5468760" y="6013440"/>
              <a:ext cx="17568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0" y="1628640"/>
            <a:ext cx="6553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less than 3 are bla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71640" y="2482920"/>
            <a:ext cx="771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889280" y="3473280"/>
            <a:ext cx="634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rly, n = 12 and 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0.6,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981080" y="4429080"/>
            <a:ext cx="6934320" cy="16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ind the binomial probability using the calculator, use the “binompdf”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ffix “pdf” stands for probability distribution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inompdf command is found under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DISTR/0:binomp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in the calculator binompdf(n, p, 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– w/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precisely 7 jurors are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pdf(12, .6, 7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– w/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less than 3 are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pdf(12, .6, 2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inompdf(12, .6, 1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Binompdf(12, .6, 0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or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76520"/>
          <a:ext cx="8229600" cy="3932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32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ate the following probabilities using the Binomialpdf on the calculator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6, p=.03, k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, p=.18, k=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5, p=.63, k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9, p=.42, k=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0, p=.37, k=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mulative Binomi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mulative distribution function (cdf) of X calculates the sum of the probabilities of 0, 1, 2, … up to a value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calculates the probability of obtain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m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successes in n trials. (Less than or equal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 command binomcdf(n, p, k) = P(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 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6811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286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erties of a Binomial Experi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-25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ists of a fixed number of observations called t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-25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rial can result in one of only two mutually exclusive outcomes labeled success (S) and failure (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-25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 of different trials are in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-25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ability that a trial results in S is the same for each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inomial random variabl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X is defined 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= number of successes observed wh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eriment is perform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6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robability distribution of X is called th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inomial probability distribu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less than 3 are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X &lt; 3)…. Or, in terms of cdf: P(X ≤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omcdf(12, .6, 2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, 32% of Mr. Fribush’s AP Stat students score at least a 4 on the AP Exam. Assuming each student has an equally likely chance of scoring at least a 4 and each student is independent of one another, find the following probabilities for a class of 25 stud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exactly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less than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at most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more than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at least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 There are only two possible outcomes for each trial. (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uccess or failur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mile"/>
          <p:cNvPicPr/>
          <p:nvPr/>
        </p:nvPicPr>
        <p:blipFill>
          <a:blip r:embed="rId1"/>
          <a:stretch/>
        </p:blipFill>
        <p:spPr>
          <a:xfrm>
            <a:off x="6095880" y="3733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mile"/>
          <p:cNvPicPr/>
          <p:nvPr/>
        </p:nvPicPr>
        <p:blipFill>
          <a:blip r:embed="rId2"/>
          <a:stretch/>
        </p:blipFill>
        <p:spPr>
          <a:xfrm>
            <a:off x="6095880" y="1447920"/>
            <a:ext cx="25146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 Each trial is independe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omstock%20We%20the%20People"/>
          <p:cNvPicPr/>
          <p:nvPr/>
        </p:nvPicPr>
        <p:blipFill>
          <a:blip r:embed="rId1"/>
          <a:stretch/>
        </p:blipFill>
        <p:spPr>
          <a:xfrm>
            <a:off x="5562720" y="1523880"/>
            <a:ext cx="304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 The probability for success for each trial is the same for each trial or obser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smile"/>
          <p:cNvPicPr/>
          <p:nvPr/>
        </p:nvPicPr>
        <p:blipFill>
          <a:blip r:embed="rId1"/>
          <a:stretch/>
        </p:blipFill>
        <p:spPr>
          <a:xfrm>
            <a:off x="6400800" y="5105520"/>
            <a:ext cx="1066680" cy="971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657600" y="4387680"/>
            <a:ext cx="1371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mile"/>
          <p:cNvPicPr/>
          <p:nvPr/>
        </p:nvPicPr>
        <p:blipFill>
          <a:blip r:embed="rId2"/>
          <a:stretch/>
        </p:blipFill>
        <p:spPr>
          <a:xfrm>
            <a:off x="1752480" y="5105520"/>
            <a:ext cx="1143000" cy="1041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609480" y="48769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1814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. There are a set number of trial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rown"/>
          <p:cNvPicPr/>
          <p:nvPr/>
        </p:nvPicPr>
        <p:blipFill>
          <a:blip r:embed="rId1"/>
          <a:stretch/>
        </p:blipFill>
        <p:spPr>
          <a:xfrm>
            <a:off x="1828800" y="426708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smile"/>
          <p:cNvPicPr/>
          <p:nvPr/>
        </p:nvPicPr>
        <p:blipFill>
          <a:blip r:embed="rId2"/>
          <a:stretch/>
        </p:blipFill>
        <p:spPr>
          <a:xfrm>
            <a:off x="380880" y="4267080"/>
            <a:ext cx="1219320" cy="1111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mile"/>
          <p:cNvPicPr/>
          <p:nvPr/>
        </p:nvPicPr>
        <p:blipFill>
          <a:blip r:embed="rId3"/>
          <a:stretch/>
        </p:blipFill>
        <p:spPr>
          <a:xfrm>
            <a:off x="6324480" y="4267080"/>
            <a:ext cx="1219320" cy="111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mile"/>
          <p:cNvPicPr/>
          <p:nvPr/>
        </p:nvPicPr>
        <p:blipFill>
          <a:blip r:embed="rId4"/>
          <a:stretch/>
        </p:blipFill>
        <p:spPr>
          <a:xfrm>
            <a:off x="4800600" y="4267080"/>
            <a:ext cx="1219320" cy="111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mile"/>
          <p:cNvPicPr/>
          <p:nvPr/>
        </p:nvPicPr>
        <p:blipFill>
          <a:blip r:embed="rId5"/>
          <a:stretch/>
        </p:blipFill>
        <p:spPr>
          <a:xfrm>
            <a:off x="3200400" y="4267080"/>
            <a:ext cx="1219320" cy="111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frown"/>
          <p:cNvPicPr/>
          <p:nvPr/>
        </p:nvPicPr>
        <p:blipFill>
          <a:blip r:embed="rId6"/>
          <a:stretch/>
        </p:blipFill>
        <p:spPr>
          <a:xfrm>
            <a:off x="7772400" y="4267080"/>
            <a:ext cx="11430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Binomial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Yates_3e_Ch08_p51009a"/>
          <p:cNvPicPr/>
          <p:nvPr/>
        </p:nvPicPr>
        <p:blipFill>
          <a:blip r:embed="rId1"/>
          <a:stretch/>
        </p:blipFill>
        <p:spPr>
          <a:xfrm>
            <a:off x="380880" y="838080"/>
            <a:ext cx="8229600" cy="248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3"/>
          <p:cNvGraphicFramePr/>
          <p:nvPr/>
        </p:nvGraphicFramePr>
        <p:xfrm>
          <a:off x="3676680" y="1901880"/>
          <a:ext cx="11412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76680" y="190188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838080" y="4267080"/>
          <a:ext cx="5943600" cy="183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4267080"/>
                    <a:ext cx="594360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Yates_3e_Ch08_p51005"/>
          <p:cNvPicPr/>
          <p:nvPr/>
        </p:nvPicPr>
        <p:blipFill>
          <a:blip r:embed="rId1"/>
          <a:stretch/>
        </p:blipFill>
        <p:spPr>
          <a:xfrm>
            <a:off x="457200" y="2279520"/>
            <a:ext cx="82296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20:04:20Z</dcterms:created>
  <dc:creator>Helberg, Alex</dc:creator>
  <dc:description/>
  <dc:language>en-US</dc:language>
  <cp:lastModifiedBy>Administrator</cp:lastModifiedBy>
  <dcterms:modified xsi:type="dcterms:W3CDTF">2013-11-25T12:00:35Z</dcterms:modified>
  <cp:revision>44</cp:revision>
  <dc:subject/>
  <dc:title>The Binomial Distribution</dc:title>
</cp:coreProperties>
</file>