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099A-7F0D-463C-AB0D-496CBD6FD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A06D-8FD0-430D-8DC2-3180D34D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DBEB-E0FF-49C9-B960-FB2D73DDC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1433-2F9D-452B-BF60-0B1C94808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C9A2-9240-48C4-B5C1-0B26C0ADA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BCE-E31F-415C-AB73-B72A2D7A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7C0-DDEC-493C-B3CF-1E8F48B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2F3-35A1-4B4B-A2A5-C0FEE87E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EE1-5FA8-4387-844E-BC5999D4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3BD-5B01-4C96-8112-ADCCE580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37B-5F3A-45DD-BB9E-EF698A69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CFE-082E-419F-A14F-6EFD9B38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BE5-EA12-4542-AE78-35E895AD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35F-24DC-461A-85FB-4B325F40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3AE-0F73-4314-9DE5-DCFF51EA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904-E20F-4954-87F4-E69B6DBD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057-3B65-4B19-B9B6-A7765B3A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B0F4-73CC-4D84-821A-3455DA69B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onditions for the Binomial Set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inomial Distribution No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compute the probability of a value of X using the Binomial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find the means and standard deviation of the Binomial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nomial Distribution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219320" y="1828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981080" y="1523880"/>
            <a:ext cx="4800600" cy="119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is B(</a:t>
            </a: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480" y="2971800"/>
            <a:ext cx="85345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the number of observ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the probability of success of any one observ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ype is inherited. If both parents carry genes for the O and A blood types, each child has probability 0.25 of getting two O genes and so of having blood type O. Different children inherit independently of each other. The number of O blood types among 5 children of these parents is the count X off successes in 5 independent observ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describe this with “B” no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B(5,.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Yates_3e_Ch08_p51009b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349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533520" y="30481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n = total # of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x or k = # of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 = probability of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1-p = probability of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n-k = # of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3276360" y="3422520"/>
            <a:ext cx="4275360" cy="920520"/>
            <a:chOff x="3276360" y="3422520"/>
            <a:chExt cx="4275360" cy="920520"/>
          </a:xfrm>
        </p:grpSpPr>
        <p:sp>
          <p:nvSpPr>
            <p:cNvPr id="91" name="Line 3"/>
            <p:cNvSpPr/>
            <p:nvPr/>
          </p:nvSpPr>
          <p:spPr>
            <a:xfrm>
              <a:off x="4286520" y="3868560"/>
              <a:ext cx="588960" cy="1440"/>
            </a:xfrm>
            <a:prstGeom prst="line">
              <a:avLst/>
            </a:prstGeom>
            <a:ln cap="sq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6571080" y="3643200"/>
              <a:ext cx="980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.22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5961240" y="3643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5786280" y="3643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5583240" y="364320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5308560" y="3643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5132160" y="3643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4930920" y="364320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4780080" y="39160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4638600" y="39160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4457880" y="39160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4303440" y="39160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4687920" y="34225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4363560" y="34225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3810240" y="3643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3628800" y="3643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3479760" y="3643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0"/>
            <p:cNvSpPr/>
            <p:nvPr/>
          </p:nvSpPr>
          <p:spPr>
            <a:xfrm>
              <a:off x="3276360" y="3643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1"/>
            <p:cNvSpPr/>
            <p:nvPr/>
          </p:nvSpPr>
          <p:spPr>
            <a:xfrm>
              <a:off x="6087600" y="3617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2"/>
            <p:cNvSpPr/>
            <p:nvPr/>
          </p:nvSpPr>
          <p:spPr>
            <a:xfrm>
              <a:off x="5438160" y="3617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3"/>
            <p:cNvSpPr/>
            <p:nvPr/>
          </p:nvSpPr>
          <p:spPr>
            <a:xfrm>
              <a:off x="6260760" y="36050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3963600" y="36050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2133720" y="152280"/>
            <a:ext cx="6705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209680" y="1143000"/>
            <a:ext cx="6553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dult population of a large urban area is 60% black. If a jury of 12 is randomly selected from the adults in this area, what is the probability that precisely 7 jurors are bla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2209680" y="28195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early, n=12 and p =.6,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8"/>
          <p:cNvGrpSpPr/>
          <p:nvPr/>
        </p:nvGrpSpPr>
        <p:grpSpPr>
          <a:xfrm>
            <a:off x="2421000" y="4641840"/>
            <a:ext cx="5503680" cy="1682640"/>
            <a:chOff x="2421000" y="4641840"/>
            <a:chExt cx="5503680" cy="1682640"/>
          </a:xfrm>
        </p:grpSpPr>
        <p:pic>
          <p:nvPicPr>
            <p:cNvPr id="117" name="Picture 29" descr=""/>
            <p:cNvPicPr/>
            <p:nvPr/>
          </p:nvPicPr>
          <p:blipFill>
            <a:blip r:embed="rId1"/>
            <a:stretch/>
          </p:blipFill>
          <p:spPr>
            <a:xfrm>
              <a:off x="2421000" y="4641840"/>
              <a:ext cx="5503680" cy="168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30"/>
            <p:cNvGrpSpPr/>
            <p:nvPr/>
          </p:nvGrpSpPr>
          <p:grpSpPr>
            <a:xfrm>
              <a:off x="4858920" y="5578200"/>
              <a:ext cx="915480" cy="739800"/>
              <a:chOff x="4858920" y="5578200"/>
              <a:chExt cx="915480" cy="739800"/>
            </a:xfrm>
          </p:grpSpPr>
          <p:sp>
            <p:nvSpPr>
              <p:cNvPr id="119" name="Line 31"/>
              <p:cNvSpPr/>
              <p:nvPr/>
            </p:nvSpPr>
            <p:spPr>
              <a:xfrm>
                <a:off x="4858920" y="6013440"/>
                <a:ext cx="176040" cy="304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5162040" y="6013440"/>
                <a:ext cx="175680" cy="304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5598360" y="5578200"/>
                <a:ext cx="17604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4"/>
            <p:cNvSpPr/>
            <p:nvPr/>
          </p:nvSpPr>
          <p:spPr>
            <a:xfrm flipV="1">
              <a:off x="4782960" y="5567400"/>
              <a:ext cx="175680" cy="304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 flipV="1">
              <a:off x="4565520" y="6002280"/>
              <a:ext cx="175680" cy="304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 flipV="1">
              <a:off x="5468760" y="6013440"/>
              <a:ext cx="175680" cy="304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0" y="1628640"/>
            <a:ext cx="6553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dult population of a large urban area is 60% black. If a jury of 12 is randomly selected from the adults in this area, what is the probability that less than 3 are bla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71640" y="2482920"/>
            <a:ext cx="7711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889280" y="3473280"/>
            <a:ext cx="634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early, n = 12 and 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0.6,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981080" y="4429080"/>
            <a:ext cx="6934320" cy="16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ind the binomial probability using the calculator, use the “binompdf”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ffix “pdf” stands for probability distribution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inompdf command is found under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/DISTR/0:binomp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in the calculator binompdf(n, p, X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– w/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ult population of a large urban area is 60% black. If a jury of 12 is randomly selected from the adults in this area, what is the probability that precisely 7 jurors are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pdf(12, .6, 7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– w/Calcu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ult population of a large urban area is 60% black. If a jury of 12 is randomly selected from the adults in this area, what is the probability that less than 3 are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mpdf(12, .6, 2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inompdf(12, .6, 1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Binompdf(12, .6, 0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or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76520"/>
          <a:ext cx="8229600" cy="3932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32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ulate the following probabilities using the Binomialpdf on the calculator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6, p=.03, k=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, p=.18, k=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5, p=.63, k=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9, p=.42, k=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0, p=.37, k=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mulative Binomi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mulative distribution function (cdf) of X calculates the sum of the probabilities of 0, 1, 2, … up to a value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calculates the probability of obtain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m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successes in n trials. (Less than or equal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or command binomcdf(n, p, k) = P(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 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6811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286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erties of a Binomial Experi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-25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sists of a fixed number of observations called t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-25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rial can result in one of only two mutually exclusive outcomes labeled success (S) and failure (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-25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s of different trials are in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-25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ability that a trial results in S is the same for each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inomial random variabl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X is defined 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= number of successes observed wh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65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eriment is perform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6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robability distribution of X is called th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inomial probability distribu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ult population of a large urban area is 60% black. If a jury of 12 is randomly selected from the adults in this area, what is the probability that less than 3 are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X &lt; 3)…. Or, in terms of cdf: P(X ≤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omcdf(12, .6, 2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ly, 32% of Mr. Fribush’s AP Stat students score at least a 4 on the AP Exam. Assuming each student has an equally likely chance of scoring at least a 4 and each student is independent of one another, find the following probabilities for a class of 25 stud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 that exactly 10 students score a 4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 that less than 10 students score a 4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 that at most 10 students score a 4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 that more than 10 students score a 4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ility that at least 10 students score a 4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inomial Distrib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 There are only two possible outcomes for each trial. (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uccess or failur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mile"/>
          <p:cNvPicPr/>
          <p:nvPr/>
        </p:nvPicPr>
        <p:blipFill>
          <a:blip r:embed="rId1"/>
          <a:stretch/>
        </p:blipFill>
        <p:spPr>
          <a:xfrm>
            <a:off x="6095880" y="3733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mile"/>
          <p:cNvPicPr/>
          <p:nvPr/>
        </p:nvPicPr>
        <p:blipFill>
          <a:blip r:embed="rId2"/>
          <a:stretch/>
        </p:blipFill>
        <p:spPr>
          <a:xfrm>
            <a:off x="6095880" y="1447920"/>
            <a:ext cx="25146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inomial Distrib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 Each trial is independen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omstock%20We%20the%20People"/>
          <p:cNvPicPr/>
          <p:nvPr/>
        </p:nvPicPr>
        <p:blipFill>
          <a:blip r:embed="rId1"/>
          <a:stretch/>
        </p:blipFill>
        <p:spPr>
          <a:xfrm>
            <a:off x="5562720" y="1523880"/>
            <a:ext cx="304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inomial Distrib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 The probability for success for each trial is the same for each trial or observ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smile"/>
          <p:cNvPicPr/>
          <p:nvPr/>
        </p:nvPicPr>
        <p:blipFill>
          <a:blip r:embed="rId1"/>
          <a:stretch/>
        </p:blipFill>
        <p:spPr>
          <a:xfrm>
            <a:off x="6400800" y="5105520"/>
            <a:ext cx="1066680" cy="971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657600" y="4387680"/>
            <a:ext cx="1371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smile"/>
          <p:cNvPicPr/>
          <p:nvPr/>
        </p:nvPicPr>
        <p:blipFill>
          <a:blip r:embed="rId2"/>
          <a:stretch/>
        </p:blipFill>
        <p:spPr>
          <a:xfrm>
            <a:off x="1752480" y="5105520"/>
            <a:ext cx="1143000" cy="1041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609480" y="48769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1814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inomial Distrib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. There are a set number of trial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rown"/>
          <p:cNvPicPr/>
          <p:nvPr/>
        </p:nvPicPr>
        <p:blipFill>
          <a:blip r:embed="rId1"/>
          <a:stretch/>
        </p:blipFill>
        <p:spPr>
          <a:xfrm>
            <a:off x="1828800" y="4267080"/>
            <a:ext cx="1143000" cy="113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smile"/>
          <p:cNvPicPr/>
          <p:nvPr/>
        </p:nvPicPr>
        <p:blipFill>
          <a:blip r:embed="rId2"/>
          <a:stretch/>
        </p:blipFill>
        <p:spPr>
          <a:xfrm>
            <a:off x="380880" y="4267080"/>
            <a:ext cx="1219320" cy="1111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mile"/>
          <p:cNvPicPr/>
          <p:nvPr/>
        </p:nvPicPr>
        <p:blipFill>
          <a:blip r:embed="rId3"/>
          <a:stretch/>
        </p:blipFill>
        <p:spPr>
          <a:xfrm>
            <a:off x="6324480" y="4267080"/>
            <a:ext cx="1219320" cy="111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mile"/>
          <p:cNvPicPr/>
          <p:nvPr/>
        </p:nvPicPr>
        <p:blipFill>
          <a:blip r:embed="rId4"/>
          <a:stretch/>
        </p:blipFill>
        <p:spPr>
          <a:xfrm>
            <a:off x="4800600" y="4267080"/>
            <a:ext cx="1219320" cy="1111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mile"/>
          <p:cNvPicPr/>
          <p:nvPr/>
        </p:nvPicPr>
        <p:blipFill>
          <a:blip r:embed="rId5"/>
          <a:stretch/>
        </p:blipFill>
        <p:spPr>
          <a:xfrm>
            <a:off x="3200400" y="4267080"/>
            <a:ext cx="1219320" cy="111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frown"/>
          <p:cNvPicPr/>
          <p:nvPr/>
        </p:nvPicPr>
        <p:blipFill>
          <a:blip r:embed="rId6"/>
          <a:stretch/>
        </p:blipFill>
        <p:spPr>
          <a:xfrm>
            <a:off x="7772400" y="4267080"/>
            <a:ext cx="11430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ing Binomial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the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Yates_3e_Ch08_p51009a"/>
          <p:cNvPicPr/>
          <p:nvPr/>
        </p:nvPicPr>
        <p:blipFill>
          <a:blip r:embed="rId1"/>
          <a:stretch/>
        </p:blipFill>
        <p:spPr>
          <a:xfrm>
            <a:off x="380880" y="838080"/>
            <a:ext cx="8229600" cy="248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Object 3"/>
          <p:cNvGraphicFramePr/>
          <p:nvPr/>
        </p:nvGraphicFramePr>
        <p:xfrm>
          <a:off x="3676680" y="1901880"/>
          <a:ext cx="11412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76680" y="190188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4"/>
          <p:cNvGraphicFramePr/>
          <p:nvPr/>
        </p:nvGraphicFramePr>
        <p:xfrm>
          <a:off x="838080" y="4267080"/>
          <a:ext cx="5943600" cy="183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4267080"/>
                    <a:ext cx="594360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Yates_3e_Ch08_p51005"/>
          <p:cNvPicPr/>
          <p:nvPr/>
        </p:nvPicPr>
        <p:blipFill>
          <a:blip r:embed="rId1"/>
          <a:stretch/>
        </p:blipFill>
        <p:spPr>
          <a:xfrm>
            <a:off x="457200" y="2279520"/>
            <a:ext cx="822960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20:04:20Z</dcterms:created>
  <dc:creator>Helberg, Alex</dc:creator>
  <dc:description/>
  <dc:language>en-US</dc:language>
  <cp:lastModifiedBy>Administrator</cp:lastModifiedBy>
  <dcterms:modified xsi:type="dcterms:W3CDTF">2013-11-25T12:00:35Z</dcterms:modified>
  <cp:revision>44</cp:revision>
  <dc:subject/>
  <dc:title>The Binomial Distribution</dc:title>
</cp:coreProperties>
</file>