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8F2B-EAFE-4169-9600-BA957919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C993-86B3-4DC2-AEFC-184110CF6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79E7-DC8B-4829-A0C8-22EA01B2D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4489-DE39-4BAB-B264-32EB385B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E86-D861-40BC-8F2A-6F4643A6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E06-3948-460A-AC29-7E509493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08A-D80B-4E21-B4DF-DAE724F1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690-13EB-40CC-A6A2-EAA18CDC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144-2CC7-4CC2-910F-A34CA8BC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66C-BD82-4EBE-9C74-85DBBA43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7CA-E529-4183-BED1-0B6D275C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5CC-56E0-458B-A840-B0283354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334-A8BC-41A5-B9E5-BBACCCAC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C8E-05EA-4E3C-9B02-237D5DBA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0B2-94F6-41EF-BD9D-497949BC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971-17CC-413A-A04A-BB90155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0664-0A8C-4DE6-98C3-A69D34A5F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about the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 is large, the distribution of X is approximately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ule of thumb, we will use the Normal approximation when n and p satis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 10 and  n(1 – p) ≥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autions with the Normal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uracy of the Normal approximation improves as the sample size n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ost accurate when p is clos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 and least accurate when p is near 0 or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not accurate when the distribution is ske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to use the Normal approximation depends on how accurate your calculations need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.520-5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: Exercises 8.13, 8.16, 8.21, 8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scuba diver can stay under water for 42 minutes with a standard deviation of 8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diver stays under for more than 36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diver stays under fro less than 53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diver stays under between 25 and 60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diver stays under for more than 59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&amp; Standard Deviation of a Binomial Random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09680" y="194940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n value and the standard deviation of a binomial random variable are, respectiv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438280" y="3809880"/>
                <a:ext cx="4496040" cy="20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295280" y="1378080"/>
            <a:ext cx="6705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fessor routinely gives quizzes containing 50 multiple choice questions with 4 possible answers, only one being corr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he just hands the students an answer sheet without giving them the questions and asks them to guess the correct answ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be a random variabl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number of correct answers on such an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mean and standard deviation f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09680" y="1295280"/>
            <a:ext cx="6324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andom variable is clearly binomial with n = 50 and p = ¼. The mean and standard deviation of x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2286000" y="2895480"/>
                <a:ext cx="609588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n gets l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371600" y="2438280"/>
            <a:ext cx="678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three slides will show you a comparison of the binomial distribution to a normal density cur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[image]"/>
          <p:cNvPicPr/>
          <p:nvPr/>
        </p:nvPicPr>
        <p:blipFill>
          <a:blip r:embed="rId1"/>
          <a:stretch/>
        </p:blipFill>
        <p:spPr>
          <a:xfrm>
            <a:off x="1004760" y="344520"/>
            <a:ext cx="7132680" cy="57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3"/>
          <p:cNvGraphicFramePr/>
          <p:nvPr/>
        </p:nvGraphicFramePr>
        <p:xfrm>
          <a:off x="2057400" y="5410080"/>
          <a:ext cx="5029200" cy="7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410080"/>
                    <a:ext cx="502920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[image]"/>
          <p:cNvPicPr/>
          <p:nvPr/>
        </p:nvPicPr>
        <p:blipFill>
          <a:blip r:embed="rId1"/>
          <a:stretch/>
        </p:blipFill>
        <p:spPr>
          <a:xfrm>
            <a:off x="1004760" y="344520"/>
            <a:ext cx="7132680" cy="57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3"/>
          <p:cNvGraphicFramePr/>
          <p:nvPr/>
        </p:nvGraphicFramePr>
        <p:xfrm>
          <a:off x="2049480" y="5562720"/>
          <a:ext cx="4967280" cy="63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9480" y="5562720"/>
                    <a:ext cx="496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[image]"/>
          <p:cNvPicPr/>
          <p:nvPr/>
        </p:nvPicPr>
        <p:blipFill>
          <a:blip r:embed="rId1"/>
          <a:stretch/>
        </p:blipFill>
        <p:spPr>
          <a:xfrm>
            <a:off x="1004760" y="344520"/>
            <a:ext cx="7132680" cy="57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Object 3"/>
          <p:cNvGraphicFramePr/>
          <p:nvPr/>
        </p:nvGraphicFramePr>
        <p:xfrm>
          <a:off x="1828800" y="5715000"/>
          <a:ext cx="5638680" cy="6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5715000"/>
                    <a:ext cx="56386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20:04:20Z</dcterms:created>
  <dc:creator>Helberg, Alex</dc:creator>
  <dc:description/>
  <dc:language>en-US</dc:language>
  <cp:lastModifiedBy>Administrator</cp:lastModifiedBy>
  <dcterms:modified xsi:type="dcterms:W3CDTF">2013-11-25T14:37:43Z</dcterms:modified>
  <cp:revision>42</cp:revision>
  <dc:subject/>
  <dc:title>The Binomial Distribution</dc:title>
</cp:coreProperties>
</file>